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C0AA-90CE-4FA4-B46E-7B1B27D1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37E3-DCAE-4B73-ABE5-C7565A50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A8BA-172E-457E-952B-BBB98692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89F3-3F23-4B42-9DC3-9DCBD0E1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0E85-0E3E-4D00-8562-5940CC41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4C1B-D51A-4ADB-86B4-CBE2C8C0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010D-059D-4944-BE2D-75D0FF1C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97E3-997E-4A80-A092-971E56F2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2543-3D94-4608-AB52-31F1C585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1DD4-2BBB-4A86-8570-EBCBE80C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BFEA-AF46-478F-BE18-48D109A1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8276-C0CD-4728-B019-942F46FE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E81E-543C-421D-ADB0-A72D07F59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220500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203640" y="3573360"/>
            <a:ext cx="2663640" cy="2521080"/>
            <a:chOff x="3203640" y="3573360"/>
            <a:chExt cx="2663640" cy="2521080"/>
          </a:xfrm>
        </p:grpSpPr>
        <p:sp>
          <p:nvSpPr>
            <p:cNvPr id="48" name=""/>
            <p:cNvSpPr/>
            <p:nvPr/>
          </p:nvSpPr>
          <p:spPr>
            <a:xfrm>
              <a:off x="3203640" y="3573360"/>
              <a:ext cx="2663640" cy="2521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35280" y="5373720"/>
              <a:ext cx="5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211640" y="4222800"/>
              <a:ext cx="64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60720" y="5373720"/>
              <a:ext cx="5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51280" y="4941720"/>
              <a:ext cx="136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00360" y="4941720"/>
              <a:ext cx="0" cy="1152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7733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15080" y="2413080"/>
            <a:ext cx="0" cy="3454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2720" y="220500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he end of this lesson you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3357720"/>
            <a:ext cx="3851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ime differences between two times, showing all wor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5589720"/>
            <a:ext cx="1081080" cy="1027080"/>
            <a:chOff x="0" y="5589720"/>
            <a:chExt cx="1081080" cy="1027080"/>
          </a:xfrm>
        </p:grpSpPr>
        <p:sp>
          <p:nvSpPr>
            <p:cNvPr id="66" name=""/>
            <p:cNvSpPr/>
            <p:nvPr/>
          </p:nvSpPr>
          <p:spPr>
            <a:xfrm>
              <a:off x="0" y="5589720"/>
              <a:ext cx="1081080" cy="10094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4600" y="6309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9680" y="584964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3200" y="6309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2800" y="613764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6320" y="613764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824400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5589720"/>
            <a:ext cx="1081080" cy="1027080"/>
            <a:chOff x="0" y="5589720"/>
            <a:chExt cx="1081080" cy="1027080"/>
          </a:xfrm>
        </p:grpSpPr>
        <p:sp>
          <p:nvSpPr>
            <p:cNvPr id="81" name=""/>
            <p:cNvSpPr/>
            <p:nvPr/>
          </p:nvSpPr>
          <p:spPr>
            <a:xfrm>
              <a:off x="0" y="5589720"/>
              <a:ext cx="1081080" cy="10094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4600" y="6309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9680" y="584964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3200" y="6309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2800" y="613764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6320" y="613764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824400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2560" y="2090880"/>
            <a:ext cx="73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hen working out time difference we will use th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0091"/>
                </a:solidFill>
                <a:latin typeface="Comic Sans MS"/>
                <a:ea typeface="Arial"/>
              </a:rPr>
              <a:t>Counting Metho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is method will alway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88880" y="3056040"/>
            <a:ext cx="683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  <a:ea typeface="Arial"/>
              </a:rPr>
              <a:t>Example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 :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Find the time difference betw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08 46 hrs and 11 52 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17720" y="404172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nearest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94640" y="453708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9960" y="5083200"/>
            <a:ext cx="13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hat’s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01240" y="4267080"/>
            <a:ext cx="36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08 46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09 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57680" y="4719600"/>
            <a:ext cx="37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09 0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1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00480" y="5156280"/>
            <a:ext cx="46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11  0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11 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08640" y="3314880"/>
            <a:ext cx="3098520" cy="1612800"/>
          </a:xfrm>
          <a:prstGeom prst="cloudCallout">
            <a:avLst>
              <a:gd name="adj1" fmla="val 38064"/>
              <a:gd name="adj2" fmla="val 983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60 mins = 1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3 hrs 6 m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30920" y="3556080"/>
            <a:ext cx="2146320" cy="2692440"/>
          </a:xfrm>
          <a:prstGeom prst="rect">
            <a:avLst/>
          </a:prstGeom>
          <a:solidFill>
            <a:srgbClr val="777777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99200" y="38768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Hr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63360" y="42670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05400" y="4719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38520" y="515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24120" y="56466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-252360" y="6021360"/>
            <a:ext cx="1081080" cy="1027440"/>
            <a:chOff x="-252360" y="6021360"/>
            <a:chExt cx="1081080" cy="1027440"/>
          </a:xfrm>
        </p:grpSpPr>
        <p:sp>
          <p:nvSpPr>
            <p:cNvPr id="111" name=""/>
            <p:cNvSpPr/>
            <p:nvPr/>
          </p:nvSpPr>
          <p:spPr>
            <a:xfrm>
              <a:off x="-252360" y="6021360"/>
              <a:ext cx="1081080" cy="1009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-77400" y="6741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7320" y="628128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0840" y="6741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440" y="656928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3960" y="656928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824400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052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ind the time difference between 02 37 h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nd 23 49 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01240" y="3263760"/>
            <a:ext cx="36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02 37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03 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01240" y="3716280"/>
            <a:ext cx="36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03 0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3 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4040" y="4135320"/>
            <a:ext cx="46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3 0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3 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7720" y="303840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nearest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94640" y="353376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9960" y="4079880"/>
            <a:ext cx="13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What’s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08760" y="2552760"/>
            <a:ext cx="2146320" cy="3568680"/>
          </a:xfrm>
          <a:prstGeom prst="rect">
            <a:avLst/>
          </a:prstGeom>
          <a:solidFill>
            <a:srgbClr val="777777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77040" y="287352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Hr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16360" y="32637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9360" y="3716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16360" y="4135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01960" y="46432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62040" y="40528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92200" y="5303880"/>
            <a:ext cx="21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1hrs 12m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-252360" y="6021360"/>
            <a:ext cx="1081080" cy="1027440"/>
            <a:chOff x="-252360" y="6021360"/>
            <a:chExt cx="1081080" cy="1027440"/>
          </a:xfrm>
        </p:grpSpPr>
        <p:sp>
          <p:nvSpPr>
            <p:cNvPr id="141" name=""/>
            <p:cNvSpPr/>
            <p:nvPr/>
          </p:nvSpPr>
          <p:spPr>
            <a:xfrm>
              <a:off x="-252360" y="6021360"/>
              <a:ext cx="1081080" cy="10098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77400" y="6741720"/>
              <a:ext cx="20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7320" y="6281280"/>
              <a:ext cx="26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0840" y="6741720"/>
              <a:ext cx="2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440" y="6569280"/>
              <a:ext cx="55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3960" y="6569280"/>
              <a:ext cx="0" cy="46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24400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2492280"/>
            <a:ext cx="4967280" cy="35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00360" y="2708280"/>
            <a:ext cx="4535640" cy="1441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2924280"/>
            <a:ext cx="36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page 93 Exercise 1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1, Q2, Q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00360" y="4581360"/>
            <a:ext cx="4535640" cy="1295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87640" y="4653000"/>
            <a:ext cx="36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es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 page 93 Exercise 1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1,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8800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2        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0920" y="33336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Distanc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2349360"/>
            <a:ext cx="165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0091"/>
                </a:solidFill>
                <a:latin typeface="Arial"/>
              </a:rPr>
              <a:t>What do you se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What_can_you_see_6.gif"/>
          <p:cNvPicPr/>
          <p:nvPr/>
        </p:nvPicPr>
        <p:blipFill>
          <a:blip r:embed="rId2"/>
          <a:stretch/>
        </p:blipFill>
        <p:spPr>
          <a:xfrm>
            <a:off x="1979640" y="1844640"/>
            <a:ext cx="5943600" cy="4457880"/>
          </a:xfrm>
          <a:prstGeom prst="rect">
            <a:avLst/>
          </a:prstGeom>
          <a:ln w="76320">
            <a:solidFill>
              <a:srgbClr val="7f7f7f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1692360" y="90792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4000" y="98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6:15:20Z</dcterms:created>
  <dc:creator>teacher</dc:creator>
  <dc:description/>
  <dc:language>en-US</dc:language>
  <cp:lastModifiedBy>Caroline</cp:lastModifiedBy>
  <dcterms:modified xsi:type="dcterms:W3CDTF">2009-01-07T14:23:39Z</dcterms:modified>
  <cp:revision>12</cp:revision>
  <dc:subject/>
  <dc:title>Slide 1</dc:title>
</cp:coreProperties>
</file>